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A05-61C4-4390-84C5-581FC593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972-7B80-4E09-A31B-6934871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801-37B8-4858-9385-E3B3F709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511-E9DC-418A-9BB6-0E3CD28D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3D21-EBDA-4CC5-8315-060DA256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9A9F-15AC-433E-BB68-F80C07E0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013-5E3E-4954-993F-7281735A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7C4-B921-448A-B2B8-160169EE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A540-0405-4C21-A036-D57FCAAC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AED-6C34-49EA-B658-509FB978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E50-94D1-47BA-A346-5F1D4270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B8A-BA8D-4AEA-AF1F-E639DC2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A726-F68E-4E85-B17D-A7D3178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A06F-B754-4839-BF3F-3F87BD8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E85-57F5-41EA-A122-A1D1870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1A9C-EB2B-44BC-A5DC-294CBE0F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BCFD-434A-4490-9B00-A0CB95AA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D57-7484-47FC-8F9A-32AEF91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8D7-F3EB-49EE-ADFC-86E33622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ECC-65F0-4505-ADC1-F7C02463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F68-CE93-47D3-B0F2-8F9BEA0D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725-1FD5-487F-BDE3-D611E5A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663-8F56-49A9-964C-B177E42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681-A513-487D-9DCF-9E42D8F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BD1-F388-4919-8F93-FD8E0200F65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333B-0145-4C19-BADE-0499022D81E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ема:Синонимы и 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691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втор: Субботин Сергей Владимирови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еник 5 класса «Русской гимнази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нтекстуальные синонимы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ин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– это слова, которые имеют схожее лексическое значение, но пишутся и звучат по-разному (например, дом – здание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нужны, чтобы обогатить нашу речь, чтобы она была разнообразной и ярк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акже синонимы помогают нам избежать повторов, тавтологи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текстуальные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текстуальные синонимы – это слова, сближение которых по значению происходит лишь в условиях определенного контекста, причем за пределами этого контекста они не являются синонимами (например, «День был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вгустовский, знойный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омитель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скучны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-А.П.Чехов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– это слова, которые имеют противоположные лексические значения (например, «большой – маленький; высоко – низко»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антоним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, как и синонимы, нужны нам для того, чтобы наша речь была богатой, разнообразной, жив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помогают нам избежать повторов в реч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06T05:50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